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13.png" ContentType="image/png"/>
  <Override PartName="/ppt/media/image8.wmf" ContentType="image/x-wmf"/>
  <Override PartName="/ppt/media/image9.wmf" ContentType="image/x-wmf"/>
  <Override PartName="/ppt/media/image11.wmf" ContentType="image/x-wmf"/>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BF774-FFE3-4951-B845-90FFAAC2F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FF65-9238-423F-AEF1-342701786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054E3-E141-42B1-9868-EA5E58744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EEECE-7FDE-4F81-AA9D-288A6822D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D94BA-8B6E-4D82-AD57-3A1430215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C1FA7-72AF-421C-B99A-44C76B122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0C0C7-C4B3-4E5F-ADF6-D26F2EF17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5673A-9107-4AE7-AC01-6A24D859E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224E6-2B2C-4C69-9931-4FB7291EB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4A03B-EDCA-49D1-ACBD-7E85113EE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001DA-E07E-497F-A504-68EF30C14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9DE0-07B8-4EF9-90F2-18D9335BA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E6644-4560-457B-A6A2-4BA92186F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6DB07-1E00-45E6-87CE-8EDDF0F5A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6310F-2BF5-45D1-9A27-3F9B52AFC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C5DE9-115B-417E-A2A2-C89A9A929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A8A81-732C-4D59-8F80-303B1797E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B9FD1-A667-4F29-AA46-E56F1AE515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E13A99-25FF-4CA5-B110-1F75CAEF22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10940-8FB9-4FC0-BA72-9C33A9C11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0D2A4-2F77-40EC-AC4B-A791DFC0F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640F6-60CA-4C16-AE2D-AC4C8E39F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E892-4ABB-4242-96CA-F2B05273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873D4F-9592-49AA-A406-707B2E25DC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1CD07-4512-4E7B-B02E-D3729D423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106834-47DD-4C93-9745-388B93750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F5E71-9E6C-45A5-BA4C-4D4887C33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871DA-E9B0-4C00-9C0F-7D648AEC9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E913FE-4535-4267-A2D6-2DC5EE5D34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320B99-A27A-43BC-9CDE-9B4FA6562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81A66-29BE-4625-A5A3-8D2119ABA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279AE0-FBF6-4F9D-B079-3F720051E8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C3C5A-81D6-421A-B479-9A9293B9C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ECAE8-71A5-40CE-86F4-17245748A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F42B46-4AC1-4FEF-A855-CCACD1E56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C9C660-E0F6-409E-833F-7D72AADD5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478F8-55CA-4EB0-9B96-057A628BE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CBD882-2830-4145-B134-D46BFEE99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05434-52DA-4DF2-97DD-AF5AB88A9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0EC17-EB95-46D3-B2AC-1FBD05F0F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3F15B9-7A58-4218-A120-F2BE1716A2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4DF889-8765-46F3-9DA1-65FD7EF7FC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94C244-577B-41BF-BA9D-5863462469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BB74FA-95D2-4101-8647-139198E235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6B56D-E978-4173-96BD-EC50AE2F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40257-B860-4391-9910-8A10BD9A8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25A2D-CB5A-4A72-A1EB-BF1CE861D4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DE8558-3F80-4002-87B9-E2DAFF447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F4A6F-A8CF-48FD-AC0E-FC823DFCC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184EFE-CA08-467D-828F-3518C8B9A2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F867F-9E66-4737-B987-3D0A81D60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E499A-55E9-47FD-BA83-A25593F36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7E850-FFF1-4948-B6D3-359ECE196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1457D-B8FC-45BF-958E-3B60F79639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9FE8FC-B8F0-4F1A-8019-863EB2266D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C549E-E641-4A84-A8AD-CE10154EC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EC0132-49BE-4673-ACD9-B8D0E4AB27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A708-455A-41CE-AEA6-C2B8850F3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20FD-2DE5-4402-A452-A285B83A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65D7-51E2-43DD-ADF3-A7E22D569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C8AF-6F22-4DF0-A9E1-E8BE1EAEA8C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66F5-1AC2-4678-B5F4-DD32F0B38D4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DE24-91FA-4E81-B3A2-ABA520D5F1C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2D76-ED32-4E73-9E8D-DF19F57556F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0D85-007A-4881-B583-4B1154A72C1D}"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2"/>
          <a:stretch/>
        </p:blipFill>
        <p:spPr>
          <a:xfrm>
            <a:off x="-609480" y="914400"/>
            <a:ext cx="304560" cy="304920"/>
          </a:xfrm>
          <a:prstGeom prst="rect">
            <a:avLst/>
          </a:prstGeom>
          <a:ln w="0">
            <a:noFill/>
          </a:ln>
        </p:spPr>
      </p:pic>
      <p:pic>
        <p:nvPicPr>
          <p:cNvPr id="247" name="MS910220001[1].wav" descr=""/>
          <p:cNvPicPr/>
          <p:nvPr/>
        </p:nvPicPr>
        <p:blipFill>
          <a:blip r:embed="rId3"/>
          <a:stretch/>
        </p:blipFill>
        <p:spPr>
          <a:xfrm>
            <a:off x="-685800" y="914400"/>
            <a:ext cx="304920" cy="304920"/>
          </a:xfrm>
          <a:prstGeom prst="rect">
            <a:avLst/>
          </a:prstGeom>
          <a:ln w="0">
            <a:noFill/>
          </a:ln>
        </p:spPr>
      </p:pic>
      <p:pic>
        <p:nvPicPr>
          <p:cNvPr id="248" name="Picture 9" descr="MC900332360[1]"/>
          <p:cNvPicPr/>
          <p:nvPr/>
        </p:nvPicPr>
        <p:blipFill>
          <a:blip r:embed="rId4">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5">
            <a:lum bright="-24000"/>
          </a:blip>
          <a:srcRect l="0" t="0" r="0" b="7310"/>
          <a:stretch/>
        </p:blipFill>
        <p:spPr>
          <a:xfrm>
            <a:off x="5342040" y="2895480"/>
            <a:ext cx="3421080" cy="3429000"/>
          </a:xfrm>
          <a:prstGeom prst="rect">
            <a:avLst/>
          </a:prstGeom>
          <a:ln w="0">
            <a:noFill/>
          </a:ln>
        </p:spPr>
      </p:pic>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ea typeface="Arial"/>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ea typeface="Arial"/>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ea typeface="Arial"/>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ea typeface="Arial"/>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55" name="Picture 4" descr="MC900295619[1]"/>
          <p:cNvPicPr/>
          <p:nvPr/>
        </p:nvPicPr>
        <p:blipFill>
          <a:blip r:embed="rId2"/>
          <a:stretch/>
        </p:blipFill>
        <p:spPr>
          <a:xfrm>
            <a:off x="7086600" y="4876920"/>
            <a:ext cx="2057400" cy="1838160"/>
          </a:xfrm>
          <a:prstGeom prst="rect">
            <a:avLst/>
          </a:prstGeom>
          <a:ln w="0">
            <a:noFill/>
          </a:ln>
        </p:spPr>
      </p:pic>
      <p:sp>
        <p:nvSpPr>
          <p:cNvPr id="256" name="Text Box 6"/>
          <p:cNvSpPr/>
          <p:nvPr/>
        </p:nvSpPr>
        <p:spPr>
          <a:xfrm>
            <a:off x="380880" y="1066680"/>
            <a:ext cx="86108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import unemployed foreign workers/ local workers to protected areas. Fund-raising campaigns and grants from other developed country will aid effort of employing workers to guard and protect affected and protected areas. That way, we can keep the Orangutans safe. We will also have hidden CCTV cameras and rangers to patrol the forested areas. The imported workers will be given high pay which will ensure that they do not take bribes and at the same time do their work properly. Vital Orangutan habitats will also be fen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05280"/>
            <a:ext cx="91440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8"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Picture 5" descr="MC900157631[1]"/>
          <p:cNvPicPr/>
          <p:nvPr/>
        </p:nvPicPr>
        <p:blipFill>
          <a:blip r:embed="rId2"/>
          <a:stretch/>
        </p:blipFill>
        <p:spPr>
          <a:xfrm>
            <a:off x="7391520" y="5483160"/>
            <a:ext cx="1492200" cy="1108080"/>
          </a:xfrm>
          <a:prstGeom prst="rect">
            <a:avLst/>
          </a:prstGeom>
          <a:ln w="0">
            <a:noFill/>
          </a:ln>
        </p:spPr>
      </p:pic>
      <p:pic>
        <p:nvPicPr>
          <p:cNvPr id="260" name="Picture 6" descr="MC900215545[1]"/>
          <p:cNvPicPr/>
          <p:nvPr/>
        </p:nvPicPr>
        <p:blipFill>
          <a:blip r:embed="rId3"/>
          <a:stretch/>
        </p:blipFill>
        <p:spPr>
          <a:xfrm>
            <a:off x="228600" y="5754600"/>
            <a:ext cx="1600200" cy="1103400"/>
          </a:xfrm>
          <a:prstGeom prst="rect">
            <a:avLst/>
          </a:prstGeom>
          <a:ln w="0">
            <a:noFill/>
          </a:ln>
        </p:spPr>
      </p:pic>
      <p:sp>
        <p:nvSpPr>
          <p:cNvPr id="261" name=""/>
          <p:cNvSpPr/>
          <p:nvPr/>
        </p:nvSpPr>
        <p:spPr>
          <a:xfrm>
            <a:off x="228600" y="99072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is to add on to existing structures allocated for agricultural purposes like farmland. The crops can be grown in separate structures and then, the trees can be harvested. This way, the locals who are allocated this farmland structure to grow their crops, can get income by selling those crops or they can consume crops. We can also have the government paying villagers an agreed small sum of money until their crops are mature enough to be harvested to earn them a steady source of income. This way, they can earn income as well as gather food instead of burning the forest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63" name="Picture 10" descr="http://t3.gstatic.com/images?q=tbn:ANd9GcQos2e_tPjmr57FOi_wUjfqYy-Dcg7EfdWJTUhedohqhs2SvtSm5w"/>
          <p:cNvPicPr/>
          <p:nvPr/>
        </p:nvPicPr>
        <p:blipFill>
          <a:blip r:embed="rId2"/>
          <a:stretch/>
        </p:blipFill>
        <p:spPr>
          <a:xfrm>
            <a:off x="304920" y="5105520"/>
            <a:ext cx="1676160" cy="123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04560"/>
            <a:ext cx="876312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Save the Orangutans from </a:t>
            </a:r>
            <a:r>
              <a:rPr b="1" lang="en-US" sz="4400" spc="-1" strike="noStrike" u="sng">
                <a:solidFill>
                  <a:srgbClr val="ff0000"/>
                </a:solidFill>
                <a:uFillTx/>
                <a:latin typeface="Tempus Sans ITC"/>
              </a:rPr>
              <a:t>Extinction</a:t>
            </a:r>
            <a:endParaRPr b="0" lang="en-US" sz="4400" spc="-1" strike="noStrike">
              <a:solidFill>
                <a:srgbClr val="04617b"/>
              </a:solidFill>
              <a:latin typeface="Calibri"/>
            </a:endParaRPr>
          </a:p>
        </p:txBody>
      </p:sp>
      <p:pic>
        <p:nvPicPr>
          <p:cNvPr id="265" name="Picture 9" descr="orangutan"/>
          <p:cNvPicPr/>
          <p:nvPr/>
        </p:nvPicPr>
        <p:blipFill>
          <a:blip r:embed="rId2"/>
          <a:srcRect l="0" t="0" r="20836" b="0"/>
          <a:stretch/>
        </p:blipFill>
        <p:spPr>
          <a:xfrm>
            <a:off x="0" y="2679840"/>
            <a:ext cx="9144000" cy="41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kumar</cp:lastModifiedBy>
  <dcterms:modified xsi:type="dcterms:W3CDTF">2011-09-12T12:11:41Z</dcterms:modified>
  <cp:revision>14</cp:revision>
  <dc:subject/>
  <dc:title>Slide 1</dc:title>
</cp:coreProperties>
</file>